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36D6-674A-44D9-9D03-99B0FFD19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F6B5-7260-425B-8FCF-91C62796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979F-10B6-4943-BF53-C08456C79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E5F2-44EC-4CFE-9FCB-E26A0C5E0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123E-B857-410D-AA28-80E68AA2E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BBC4-CAE2-48F6-AEAB-E73E8E22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6BDE-269D-444C-A786-9898C77B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2C3A-6D6A-4A8B-8ED1-682E970C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0B25-1619-479F-93BD-46926567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4D70-F69E-47DF-9189-6A06348B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6AC4-5BD7-46AB-8DC7-03E23748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4241-F576-41FB-9E65-3710C1AD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C9A2-2D85-4127-9668-D41CFAFD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0A25-3BFF-46BF-8279-39FB9D59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CD89-8390-4BA7-983C-A14B4483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E0D9-4428-4851-B4B3-38FBAFE2A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2140-1F29-4764-957C-5958312F1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6184-DB40-4309-AC2E-47D6D236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F548-9A3C-49A0-8A4D-DB18E703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5B94-5248-48FD-9B81-EB0E90DE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C92E-8731-404F-867E-19C162D2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925F-9D74-400C-BE8F-C5659742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21FE-7E3D-4972-8D3B-979EE3FE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59B2-DBEB-4979-9778-02E18FDE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0876-7840-46C7-85A4-89E564E0B65E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465D-C483-482D-9017-FD9119E49F9F}" type="slidenum">
              <a:rPr b="0" lang="ar-SA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333399"/>
                </a:solidFill>
                <a:latin typeface="Tahoma"/>
              </a:rPr>
              <a:t>اتجاه الأُط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التقرير السنوي للمبيعات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333399"/>
                </a:solidFill>
                <a:latin typeface="Tahoma"/>
              </a:rPr>
              <a:t>المحتويات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اقتباس السنة الماضي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التقدم هذه السن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أرقام المبيعا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</a:rPr>
              <a:t>المساهمة في الأربا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09:43:34Z</dcterms:created>
  <dc:creator>nccworker</dc:creator>
  <dc:description/>
  <dc:language>en-US</dc:language>
  <cp:lastModifiedBy>Wael</cp:lastModifiedBy>
  <dcterms:modified xsi:type="dcterms:W3CDTF">2004-08-02T23:16:17Z</dcterms:modified>
  <cp:revision>3</cp:revision>
  <dc:subject/>
  <dc:title>Windows Direct</dc:title>
</cp:coreProperties>
</file>